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105-17FE-4A25-8237-4A53070D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B20-407D-4E48-9986-6C8DDF3F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4A7-6295-4DE3-ADB9-EFC60A19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C9A-5C58-4B15-A7C3-0CCB8718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948-190B-4E50-9268-2A6D3AC6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67F-63D5-43B6-A796-437D29F9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753-10C7-44B8-9BCB-2737D18B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18B-7A7A-46CB-A0C1-8DAC1E0B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C19-6B72-4E66-A655-5B1F18BF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679-25D5-4326-82AE-5231D65C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D02-D81F-4BC1-AA11-6611048D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795-16B2-4CAE-8C67-BC3A28D5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995F-5B9A-456C-8931-35ED79012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COT Public Website Enhancement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ing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prompted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L Phase II Mid-Ter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ing business dri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the Market Survey strongly encouraged the implementation of a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website comparisons between the other I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8672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Detailed information on supporting data is available upo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COT.com Specific Scop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d Search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 Management System (C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Internal &amp; External resources for Information Architecture and Content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ing human factors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914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how we plan to address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FP Process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an with a total of 7 vendors who responded to the publicly posted RF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dor shortlist was established on 9/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vendors comprised the 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the vendors to present their solutions in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dors presented solutions on 10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created an evaluation team which comprised of 6 individuals from 6 different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eam member graded the responses and provided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or was officially selected on 10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dor set to begin work before the end of ‘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 working on solidifying a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s working to get facilities and technical environments in place to avoid any waste of vendor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COT.com high leve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ontract is not solidified, the timeline is an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is requiring the vendor implement 180 days after the execution of the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goal is to execute contract by early to mid-November which places project implementation early summer of ‘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tnt</cp:lastModifiedBy>
  <dcterms:modified xsi:type="dcterms:W3CDTF">2004-10-14T13:11:45Z</dcterms:modified>
  <cp:revision>132</cp:revision>
  <dc:subject/>
  <dc:title>TX SET V1.5 RFP Evaluation Recommendation</dc:title>
</cp:coreProperties>
</file>